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D18-A912-4130-AD5D-0CB923E7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162-57B6-4204-AEB0-22E1C6FA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961D0-5667-47ED-A0A9-E0EE1F36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FC4C7-02C7-4438-98A0-EFC1E860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0A463-2BBB-4335-B6A8-51A1F7CC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24D26-DF73-425E-9A10-DA24D977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F30C6-A352-413A-82D7-3689F9D6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02109-DA62-470F-8F42-B45E3F2E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56510-9494-4E58-9091-5C21DEA3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4B2E3-2648-456C-8E51-358C5581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0D6DF-E6DA-4EBF-B39E-C406BB74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59C37-1788-4FA9-B680-7728CA64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6D05-F543-49CF-84E9-EF9633CD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1DD91-F626-45DA-B005-6B6B11EE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6632F-6E7F-4121-BC4B-DB810FD9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28B9B-4BCF-4757-8CE1-EC00B3C2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B266C-7D3E-416D-B558-43E3A652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8D61C-6FC8-4D85-A2EA-D8480C3E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25F52-92F9-40C5-B5C4-527BFE17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53F21-436D-47DA-9830-15A1CACD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BBC7E-71B4-4946-9B18-0B5BC2E0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21B58-5B21-4305-9106-0454963F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4FA23-67F4-4BB0-82AF-F96204E8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BA1-B520-4C54-B156-BC208E6C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BB423-DC47-4C52-B670-3D849F0B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F02FF-12BA-4217-A663-0483A9FF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D2492-04A1-4559-9F3C-1B11B4D5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8A811-8EA0-47A0-885A-3ED31C39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E2D34-F62C-41F6-BFF8-41A769AC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2E34E-8969-4789-B9C5-09BE8CAB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9A8A5-569B-4115-AFFC-1497F77F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20F71-98C8-48C1-B5ED-280A1362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4F121-C415-410F-B092-AA56FDDF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E6737-2BCC-44A7-894E-B30874CA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C1B1-2547-45F4-BD4F-FDF47CBD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2D68B-58FC-4F5F-971E-417B1B4B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EA361-27FD-4507-9AA9-00641969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9FD9C-9E5C-42C7-B132-86D04651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B16B2-84A5-473C-A0F8-B920446E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86C1E-7753-4F23-AB68-C3E4E8C7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745A3-58A5-411A-B241-995CD8B5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3537C-91D0-439A-A601-4AEE5210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2F33A-5FDF-42AA-BDBB-6D8A5D85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D316E-180D-4E38-A983-5CCA460E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26A23-03D0-40E1-91E5-3F3DA0F4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27BE-1C5C-4BB9-BD3A-9C5EFF32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896A3-5BCB-47B5-B855-2F551D1B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FA825-8A91-411F-8B14-0A973954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C4035-CD6E-4436-B12F-0EC71ADA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8E279-16CC-4EC4-A643-DB3C90A7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BF46C-73C2-4C21-9376-BB1524BE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FC4DC-6DCD-4448-A26E-066D6A40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F392C-FDD5-4776-A4F4-4C024F12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3977E-E9D6-468E-82A4-4A91CA83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D424B-33E8-4466-BC5B-B2698922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5F1541-43DE-4507-BA3D-DE3C49FE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33EB-370F-4DDE-B4EA-7BAC415A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19DADE-CED2-4276-B5FB-C0BA9520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4F44A-5EDF-4F40-9F1D-E10BD697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9CF0FA-E840-404E-9586-0285D662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509C1-0D1D-4CA3-9EF1-0C0DFD27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D0F77-29A1-4AFA-BBE5-F03DCA29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BE88E-420D-40E8-8FF4-49B0CC68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03D0F-A0EA-448D-8D6D-555C3523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AC9755-59DA-489A-A325-EF1582F7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D36B80-D883-4A68-9B0E-E2959B08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7BAACA-E73F-416B-A2C8-B415486A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441C-73A3-4865-8D16-6371DF2D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957A5-CA60-4CCE-8709-EA1A4772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1D8347-40DC-47C9-B2A8-C63B0647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6832AB-3BDF-4AEB-A492-870CDDBD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B2B122-8B0C-4B50-94E8-D5847139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743943-AC07-4F6D-B93C-B4F8E5F0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F77A88-44B4-4271-B8C7-A0FFA428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054C48-E8A6-4926-BA01-F6773843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4DB63-E093-46E8-B0D9-BFAB34CE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614700-5CBC-45A9-8F69-3B10C8CA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01BFDD-DC42-4552-9343-D197F119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0382-07DD-4FE8-BE94-77B5AC0E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705700-00C7-43D3-B1AF-4CEC4501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D1F057-4F31-44FC-8D64-7524F8D8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846CF-B26B-4616-9F90-57E825DF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3809E6-FCBB-4277-8A16-CA020218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3D9793-749F-40E7-92CE-77C671E0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5130D-A5A6-49CB-8F43-A987A4F7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AEB4E9-C1AB-403A-AD91-80DF8913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CC6262-7280-416B-93AD-A753BE97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9C3616-76D3-45B1-94AE-66BF0F43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27342D-0C97-4918-98CA-051DC80C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98D6-7B62-44AA-925C-9B397868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0676D4-E578-4679-BD6D-F12D67F9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36BA76-28F8-4CCD-9CC2-C3728136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1743AA-522C-4952-87E4-BB4257A0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CB8863-D130-44EB-B7CD-A503777A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28B35A-E7B5-48D3-9A73-CFCA2CA0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33B79-EB81-4177-AC75-64295823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379F91-62FC-4AC3-958A-29D4F30F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0262CD-519D-41C0-AC4B-C8B90240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FE530E-C9B4-486E-A84F-0F7AFB28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D75015-85F1-4D45-A74A-C14FE983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84CB-34DB-4353-8130-77873C72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8FCEE1-C941-4ED9-AF8A-EAA832EA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C0C65E-6108-4968-85AA-D169CDF9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851191-B68F-4F54-8B3B-A69B4067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59888E-6551-4CB7-824C-6A5B2310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4FD704-9658-4962-82EB-FA959CB4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6F62EB-73A4-4E48-B05D-2A2AE5B0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253AB6-8905-4722-8853-BF49874D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87F896-D6B1-4027-9110-FC4F14E4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0AE0F3-57F7-4488-BF8D-B6D9A53D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D09C3C-4C7D-4044-8403-DF812D88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D802-9DDF-4AC8-BFC6-58985153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6695-AABD-42B4-8FCB-41D2B1AD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A4B82F-2670-46C6-A134-B86EA591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C0CCAF-E225-4FCF-A9CB-61CF5E14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CC0EAD-A551-4B68-92F8-2041D598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2D02A4-4497-43A1-935E-BD5D5C2A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5C1EFD-D15E-44CF-8575-631CC86F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30B1-7044-40C8-8F80-7D9FA883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B0DC-29F4-4FA9-8AC6-D8A3B44F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E21B-51DC-425A-8A26-456802CF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AEA3-4432-4CDC-B6A7-6A472500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09329-8F3C-403B-ABA7-9EFEC93F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16AC2-206B-4C79-BE84-06E6CE31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464C6-DAA3-40E1-B002-1680C75D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821E6-7AFD-4B42-9512-53CF4814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918BC-E952-4442-A081-FF058661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FB2-8035-4BE6-9651-EBB70289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25169-0160-42FE-B701-C1DE249D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74FB2-6D63-4B9D-A1CB-5C3036B1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83F3C-0804-4C97-9DBD-181B2DE0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96262-1D41-439F-8C63-5B4EAA0D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5B730-F23C-46DF-B8FA-49AFA322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C7685-2570-41B5-8C5B-4BD8E118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05F7-52A4-41DD-BD9E-47906712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A07E8-A9C1-4DD1-9EE8-C9B0B42C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585F9-79E2-461D-A7DC-86E3AC79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28038-3DB0-449E-AA61-9057C81D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902-CF6A-4E62-8693-FE0489B7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A16EB-9EE5-4A27-B1A0-8A3428A3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D0530-2D33-48B7-A386-113985B6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5BC38-2D45-463C-A078-A62A517F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54484-0683-44CB-8A91-9ABA5324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FE874-1C67-4815-80E6-B9AEE4AF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9EC38-3260-4021-B47D-7BA010A1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A0BF3-1C15-40C0-80D4-53FD9528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16F55-C7C1-45E0-A67B-069561DB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CEF3F-56DC-4169-A593-79EAF3FE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0475A-ABAB-4119-B335-F40736AD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0E0-50C1-4794-9944-7A100C04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9F5E0-A0AA-422C-9B16-F38C4271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F4719-6060-4025-92D2-11EEF147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D2412-B57C-4B1A-8F64-279F27EF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17A80-BB64-44D4-B106-FA356990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C4BFA-80CE-44A7-B99D-F7CD5A69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89994-EC23-42F7-AE37-12DBBFE4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803EC-D65B-4C64-A004-07F546B0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22D35-BBF1-4375-920A-43163566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BB459-42C3-466F-84BD-2DC0B907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B8B65-2FAB-4296-B2D8-9E33354D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5DAA-E097-4C5C-9EBF-41E698A4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B8DC8-2B3B-4F31-8015-3C4BBC8F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EAB95-316A-4053-A7C5-8508D423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51459-6FDA-428A-9190-FBFB24DD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F49A5-A20B-4B3E-A6CC-6F81A2FC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6710D-DB0F-49A1-A032-52F2DA1F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654DB-1141-4C04-9EDA-E98DDDBB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9D55F-CB7C-4739-BC9D-CAC7A4B6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450B7-5523-468B-BCB4-6F2CFA6E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AC7F0-EB90-4EA2-9106-AB25D6DA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2B1E7-6BA5-49A7-A736-2FCCC60A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0B8D-F4BC-4B2C-A1C8-980BCEAB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39A2A-6964-4F4B-9C0D-C589C00B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6A55C-C8C0-40B7-8510-07B9AF62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E88E3-ABC3-468A-87C9-249D6166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08496-A9D6-4033-8999-A8D0ED20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D650F-4A3D-4CD8-BF27-BB297BE2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0021E-F809-4815-B22B-BCFE32BE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C26E7-F182-42E2-98BE-BBD00330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E4EF4-FD7C-4616-A5B1-F86CDC9A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0DDD8-3AED-4170-8408-2F691DEE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7EA65-9A8A-490E-BC8F-5848BC81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4861-1DB5-4289-A52A-8F769436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B9988-C1E3-4C54-BCC9-9CF5B998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CC201-4D69-4FAC-9DAD-B7764244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7A6F3-D506-49AF-B30F-018C0FA2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41FA5-28D1-4228-B84A-4BB83EA0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0BCAF-278A-4C5A-B6E2-9B121D3B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F73C0-E71F-42E0-8899-527B7A83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64875-4116-4CF9-8983-2C4BF350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18927-99BE-4BED-B357-4643029B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C00DB-51D1-494A-96DE-4F1EEAC1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565B8-A0A9-448E-86F0-99407AC3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FE19-92EC-4BB7-9F59-FA0E0BB2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9F123-54A1-45A1-A61F-3BA57BEE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AA0FF-63DE-4262-9B2E-C3E1DDE0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40F03-8101-4410-A06B-FD57D748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8FA4C-F26A-4A2E-A03C-6D704840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A85CA-BC86-4EC5-8BCA-F70EBFAF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32504-6EBD-4EA0-854F-4CD8AB0C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EF949-8750-47B8-A9C4-44867375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2D851-BF28-4882-AEEB-66451D9A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5C422-BBC8-416C-817A-54481ECD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30F1C-5A83-4ADE-9D5E-5DCE98C3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0A5C-16C8-4757-A508-A2F383FC106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6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7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9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EF59-A500-4FAF-9C34-519B498BABE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77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3759-22D3-43F7-BEED-6BB439BD093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84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0C3D-E6DA-4604-9509-EDC8E18D87D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2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62FF-7622-481A-9F65-93B47553C9C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9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916B-96A0-4B06-9060-11AE5C76D3C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7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FA1F-F613-47C4-AF7C-47F7F459F29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14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8574-0CC3-4687-B02C-907CFA8E02B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8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0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21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699E-DD8B-4131-ACD4-3B987E7220C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65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B77C-973E-4028-ABB9-EDB92BFE1AD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670D-D61E-49D6-91EC-55696044997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25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23FA-4FD2-49FF-820B-CC76CE65EB1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327" name="Freeform 65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9D4C-F862-4905-A783-93269165A8D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0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BE3F-304F-4809-9139-154AF543EB8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4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5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3564-B773-46B3-BADE-7524C2803EE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54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B763-1F04-476C-B160-00613854FEF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9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0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2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ECAF-FC5B-4014-B3AD-4A90F774F14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itle 1"/>
          <p:cNvSpPr/>
          <p:nvPr/>
        </p:nvSpPr>
        <p:spPr>
          <a:xfrm>
            <a:off x="1600200" y="33480"/>
            <a:ext cx="739152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Content Placeholder 2"/>
          <p:cNvSpPr/>
          <p:nvPr/>
        </p:nvSpPr>
        <p:spPr>
          <a:xfrm>
            <a:off x="152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INVC- Bridg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dvancing Value Chains of Groundnuts and Soy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esented at the Annual Review workshop, Lilongwe Hotel, Lilong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Picture 8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6934320" y="5867280"/>
            <a:ext cx="1828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523520" y="446040"/>
            <a:ext cx="304812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  <a:ea typeface="Calibri"/>
              </a:rPr>
              <a:t>Aggregation &amp; Marketing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4743000" y="446040"/>
            <a:ext cx="3791160" cy="541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124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  <a:ea typeface="Calibri"/>
              </a:rPr>
              <a:t>Prices of soya beans that were offered by the informal traders ranged from MK110/kg to MK170/kg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  <a:ea typeface="Calibri"/>
              </a:rPr>
              <a:t>Linkage of farmer groups -Nyanja and Chitowo Associations to buyers (24.5MT @ MK200/kg for Nyanja and 15.4 MT for Chitowo @MK160/kg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29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30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331" name="Picture 7" descr="C:\Users\PKabuli\Desktop\Marketing photos\IMG-20170603-WA0020.jpg"/>
          <p:cNvPicPr/>
          <p:nvPr/>
        </p:nvPicPr>
        <p:blipFill>
          <a:blip r:embed="rId3"/>
          <a:stretch/>
        </p:blipFill>
        <p:spPr>
          <a:xfrm>
            <a:off x="3795840" y="3149640"/>
            <a:ext cx="5138640" cy="297648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8" descr="C:\Users\PKabuli\Desktop\Field visit photos\DSC_0815.JPG"/>
          <p:cNvPicPr/>
          <p:nvPr/>
        </p:nvPicPr>
        <p:blipFill>
          <a:blip r:embed="rId4"/>
          <a:stretch/>
        </p:blipFill>
        <p:spPr>
          <a:xfrm>
            <a:off x="3825720" y="609480"/>
            <a:ext cx="5108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Value created by the 2 Value chai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34" name=""/>
          <p:cNvGraphicFramePr/>
          <p:nvPr/>
        </p:nvGraphicFramePr>
        <p:xfrm>
          <a:off x="914400" y="2133720"/>
          <a:ext cx="7848720" cy="308592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  <a:gridCol w="1307880"/>
                <a:gridCol w="1308240"/>
                <a:gridCol w="1308240"/>
              </a:tblGrid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od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rea (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(Kg/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on (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erage Price (MK/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mount (M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12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68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581,6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33,060,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/n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32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3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379,9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0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3,971,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147,031,6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3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961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Lesso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Despite the message of aggregation and marketing, farmers still prefers CoD mode of trad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Group marketing is being affected by past experiences and lack of trust…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Access to structured market is depended on the volume of productio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Challeng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0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Low pr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Low production- not able to participate in competitive and structured market effectivel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Poor quality seed of groundnuts reduced the profitability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Weak farmer groups- not able to participate in the marketing of commodities effectivel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Aggregation was affected by past experiences and lack of trus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41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244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 txBox="1"/>
          <p:nvPr/>
        </p:nvSpPr>
        <p:spPr>
          <a:xfrm>
            <a:off x="1523520" y="2133360"/>
            <a:ext cx="67820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entury Gothic"/>
              </a:rPr>
              <a:t>Thanks for your attention!...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44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Presentation outlin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Introduction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Achievement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G/nuts and Soya value chain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Costs and returns structures of G/nuts &amp; Soy beans value chain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Sensitivity Analysis of Soy bean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seed loan management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aggregation and marketing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Value created by the 2 chain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Lesson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Challenge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7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10280" y="594828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600200" y="3312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Introduct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52280" y="91404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The strategic objective was to improve the competitiveness of soya and groundnuts through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increasing access to business development, financial, and extension services;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transforming the relationships between value chain actors; and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developing market linkages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Working in 5 districts (Mchinji, Lilongwe, Dedza, Ntcheu, and Mangochi) covering 15 EPAs, targeted 15,051 farmer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1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86600" y="579132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Text Box 3"/>
          <p:cNvSpPr/>
          <p:nvPr/>
        </p:nvSpPr>
        <p:spPr>
          <a:xfrm>
            <a:off x="838080" y="227664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operators - in different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19"/>
          <p:cNvSpPr/>
          <p:nvPr/>
        </p:nvSpPr>
        <p:spPr>
          <a:xfrm>
            <a:off x="1042920" y="1555920"/>
            <a:ext cx="113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ed and Inoculant pro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AutoShape 20"/>
          <p:cNvSpPr/>
          <p:nvPr/>
        </p:nvSpPr>
        <p:spPr>
          <a:xfrm>
            <a:off x="826920" y="1555920"/>
            <a:ext cx="1584360" cy="5047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4" y="0"/>
                </a:lnTo>
                <a:lnTo>
                  <a:pt x="21600" y="10800"/>
                </a:lnTo>
                <a:lnTo>
                  <a:pt x="18444" y="21600"/>
                </a:lnTo>
                <a:lnTo>
                  <a:pt x="0" y="21600"/>
                </a:lnTo>
                <a:lnTo>
                  <a:pt x="3156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22"/>
          <p:cNvSpPr/>
          <p:nvPr/>
        </p:nvSpPr>
        <p:spPr>
          <a:xfrm>
            <a:off x="2771640" y="163512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AutoShape 23"/>
          <p:cNvSpPr/>
          <p:nvPr/>
        </p:nvSpPr>
        <p:spPr>
          <a:xfrm>
            <a:off x="241128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AutoShape 25"/>
          <p:cNvSpPr/>
          <p:nvPr/>
        </p:nvSpPr>
        <p:spPr>
          <a:xfrm>
            <a:off x="399420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26"/>
          <p:cNvSpPr/>
          <p:nvPr/>
        </p:nvSpPr>
        <p:spPr>
          <a:xfrm>
            <a:off x="4348080" y="1555920"/>
            <a:ext cx="10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28"/>
          <p:cNvSpPr/>
          <p:nvPr/>
        </p:nvSpPr>
        <p:spPr>
          <a:xfrm>
            <a:off x="550872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29"/>
          <p:cNvSpPr/>
          <p:nvPr/>
        </p:nvSpPr>
        <p:spPr>
          <a:xfrm>
            <a:off x="5867280" y="1587600"/>
            <a:ext cx="110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ra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43"/>
          <p:cNvSpPr/>
          <p:nvPr/>
        </p:nvSpPr>
        <p:spPr>
          <a:xfrm>
            <a:off x="917640" y="2924280"/>
            <a:ext cx="125892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44"/>
          <p:cNvSpPr/>
          <p:nvPr/>
        </p:nvSpPr>
        <p:spPr>
          <a:xfrm>
            <a:off x="936720" y="2976480"/>
            <a:ext cx="1258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duc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unwe – 119MT Makwac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seco- 21MT Tikol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ISL-40MT CG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lobal Seeds- 30MT CG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45"/>
          <p:cNvSpPr/>
          <p:nvPr/>
        </p:nvSpPr>
        <p:spPr>
          <a:xfrm>
            <a:off x="2197080" y="3211560"/>
            <a:ext cx="358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Group 46"/>
          <p:cNvGrpSpPr/>
          <p:nvPr/>
        </p:nvGrpSpPr>
        <p:grpSpPr>
          <a:xfrm>
            <a:off x="2556000" y="2924280"/>
            <a:ext cx="1762560" cy="2154240"/>
            <a:chOff x="2556000" y="2924280"/>
            <a:chExt cx="1762560" cy="2154240"/>
          </a:xfrm>
        </p:grpSpPr>
        <p:sp>
          <p:nvSpPr>
            <p:cNvPr id="1286" name="Rectangle 47"/>
            <p:cNvSpPr/>
            <p:nvPr/>
          </p:nvSpPr>
          <p:spPr>
            <a:xfrm>
              <a:off x="2556000" y="2924280"/>
              <a:ext cx="1127160" cy="57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 Box 48"/>
            <p:cNvSpPr/>
            <p:nvPr/>
          </p:nvSpPr>
          <p:spPr>
            <a:xfrm>
              <a:off x="2603160" y="3066480"/>
              <a:ext cx="171540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rm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rmer grou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oci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pera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82MT of so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380MT of G/n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49"/>
            <p:cNvSpPr/>
            <p:nvPr/>
          </p:nvSpPr>
          <p:spPr>
            <a:xfrm>
              <a:off x="3708360" y="3199680"/>
              <a:ext cx="3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Group 50"/>
          <p:cNvGrpSpPr/>
          <p:nvPr/>
        </p:nvGrpSpPr>
        <p:grpSpPr>
          <a:xfrm>
            <a:off x="4067280" y="2924280"/>
            <a:ext cx="2022120" cy="2477880"/>
            <a:chOff x="4067280" y="2924280"/>
            <a:chExt cx="2022120" cy="2477880"/>
          </a:xfrm>
        </p:grpSpPr>
        <p:sp>
          <p:nvSpPr>
            <p:cNvPr id="1290" name="Rectangle 51"/>
            <p:cNvSpPr/>
            <p:nvPr/>
          </p:nvSpPr>
          <p:spPr>
            <a:xfrm>
              <a:off x="4067280" y="2924280"/>
              <a:ext cx="1152360" cy="648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52"/>
            <p:cNvSpPr/>
            <p:nvPr/>
          </p:nvSpPr>
          <p:spPr>
            <a:xfrm>
              <a:off x="4107240" y="3177000"/>
              <a:ext cx="19821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l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s for Go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nga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CE Platfor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K110-200/kg So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K270-330/kg G/n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Line 53"/>
            <p:cNvSpPr/>
            <p:nvPr/>
          </p:nvSpPr>
          <p:spPr>
            <a:xfrm>
              <a:off x="5219640" y="3226680"/>
              <a:ext cx="3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Group 54"/>
          <p:cNvGrpSpPr/>
          <p:nvPr/>
        </p:nvGrpSpPr>
        <p:grpSpPr>
          <a:xfrm>
            <a:off x="5580000" y="2924280"/>
            <a:ext cx="1511280" cy="672480"/>
            <a:chOff x="5580000" y="2924280"/>
            <a:chExt cx="1511280" cy="672480"/>
          </a:xfrm>
        </p:grpSpPr>
        <p:sp>
          <p:nvSpPr>
            <p:cNvPr id="1294" name="Rectangle 55"/>
            <p:cNvSpPr/>
            <p:nvPr/>
          </p:nvSpPr>
          <p:spPr>
            <a:xfrm>
              <a:off x="5580000" y="2924280"/>
              <a:ext cx="1152720" cy="57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56"/>
            <p:cNvSpPr/>
            <p:nvPr/>
          </p:nvSpPr>
          <p:spPr>
            <a:xfrm>
              <a:off x="5580000" y="3076560"/>
              <a:ext cx="128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n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57"/>
            <p:cNvSpPr/>
            <p:nvPr/>
          </p:nvSpPr>
          <p:spPr>
            <a:xfrm>
              <a:off x="6732720" y="3200040"/>
              <a:ext cx="358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Oval 58"/>
          <p:cNvSpPr/>
          <p:nvPr/>
        </p:nvSpPr>
        <p:spPr>
          <a:xfrm>
            <a:off x="7093080" y="2924280"/>
            <a:ext cx="1511280" cy="576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59"/>
          <p:cNvSpPr/>
          <p:nvPr/>
        </p:nvSpPr>
        <p:spPr>
          <a:xfrm>
            <a:off x="7311600" y="2924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65"/>
          <p:cNvSpPr/>
          <p:nvPr/>
        </p:nvSpPr>
        <p:spPr>
          <a:xfrm>
            <a:off x="1547640" y="11160"/>
            <a:ext cx="6216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gress of Achievement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  <a:ea typeface="Arial"/>
              </a:rPr>
              <a:t>G/nuts and 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oy beans Value Ch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feld 43"/>
          <p:cNvSpPr/>
          <p:nvPr/>
        </p:nvSpPr>
        <p:spPr>
          <a:xfrm>
            <a:off x="7242120" y="14842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40404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40404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59"/>
          <p:cNvSpPr/>
          <p:nvPr/>
        </p:nvSpPr>
        <p:spPr>
          <a:xfrm>
            <a:off x="7301520" y="317340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eg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Picture 30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290520" y="6060960"/>
            <a:ext cx="1905120" cy="71136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79132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  <a:ea typeface="Calibri"/>
              </a:rPr>
              <a:t>Costs and Returns structure of G/nuts and Soy beans Value Chain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306" name=""/>
          <p:cNvGraphicFramePr/>
          <p:nvPr/>
        </p:nvGraphicFramePr>
        <p:xfrm>
          <a:off x="1960560" y="2193840"/>
          <a:ext cx="6573960" cy="4145040"/>
        </p:xfrm>
        <a:graphic>
          <a:graphicData uri="http://schemas.openxmlformats.org/drawingml/2006/table">
            <a:tbl>
              <a:tblPr/>
              <a:tblGrid>
                <a:gridCol w="2306520"/>
                <a:gridCol w="2076480"/>
                <a:gridCol w="2190960"/>
              </a:tblGrid>
              <a:tr h="91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oy beans-Makwa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/nuts- CG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68kg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3.62kg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16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30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variable c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12,121.00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29,36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ss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34,880.00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89,086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ss mar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2,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59,726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eak-even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144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38.02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07" name="Picture 5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55440" y="6134040"/>
            <a:ext cx="1905120" cy="71136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617868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nsitivity Analysis for Soy beans (‘What if’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10" name=""/>
          <p:cNvGraphicFramePr/>
          <p:nvPr/>
        </p:nvGraphicFramePr>
        <p:xfrm>
          <a:off x="1219320" y="2133720"/>
          <a:ext cx="7467480" cy="2565360"/>
        </p:xfrm>
        <a:graphic>
          <a:graphicData uri="http://schemas.openxmlformats.org/drawingml/2006/table">
            <a:tbl>
              <a:tblPr/>
              <a:tblGrid>
                <a:gridCol w="1079280"/>
                <a:gridCol w="1054080"/>
                <a:gridCol w="1067040"/>
                <a:gridCol w="1066680"/>
                <a:gridCol w="1066680"/>
                <a:gridCol w="1067040"/>
                <a:gridCol w="106668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Yield (Kg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Variable cost (M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rice (MK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ross Income (M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M (MK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BEP (MK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If?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2,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(52,1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212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If?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2,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07,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106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11" name="Picture 4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201080" y="6110280"/>
            <a:ext cx="1828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ed Loan manageme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1942920" y="1676160"/>
            <a:ext cx="659124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140MT of Soy and 70MT of CG7 was loaned to farmer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The rate of repayment varied from one partner to the other but the majority of partners used 1:2 system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Repayment rate for FGs ranges from 40% to 100%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The initial plan for the seed loan was to sell the repaid grain and use the proceeds to buy new certified seed????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However, there is a challenge that the loan amount will be tremendously reduced………….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1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5152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523880" y="623520"/>
            <a:ext cx="739152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ed Loan manageme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1523520" y="1464840"/>
            <a:ext cx="708660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For example, if we assume 1:2 repayment with 80% repayment rate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In view of this, plans are underway to establish a sustainable seed management system-borrowing from Chithumba model- where repayment is as high as 1:4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19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5680"/>
            <a:ext cx="182880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1" name=""/>
          <p:cNvGraphicFramePr/>
          <p:nvPr/>
        </p:nvGraphicFramePr>
        <p:xfrm>
          <a:off x="1523880" y="2305080"/>
          <a:ext cx="7086600" cy="2114640"/>
        </p:xfrm>
        <a:graphic>
          <a:graphicData uri="http://schemas.openxmlformats.org/drawingml/2006/table">
            <a:tbl>
              <a:tblPr/>
              <a:tblGrid>
                <a:gridCol w="609840"/>
                <a:gridCol w="990360"/>
                <a:gridCol w="1143000"/>
                <a:gridCol w="990720"/>
                <a:gridCol w="838080"/>
                <a:gridCol w="685800"/>
                <a:gridCol w="990720"/>
                <a:gridCol w="838080"/>
              </a:tblGrid>
              <a:tr h="903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ch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ty distribu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(M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 re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Pri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unt (M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th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60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6,825,2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5,84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00b0f0"/>
                          </a:solidFill>
                          <a:latin typeface="Calibri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/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9,568,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3,6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00b0f0"/>
                          </a:solidFill>
                          <a:latin typeface="Calibri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Aggregation and Marketing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1942920" y="16761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rained 27 (8F, 19M)frontline staff (DAES, We-Effect, Dedza CADECOM) on formulation of aggregation &amp; marketing plans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rained 274 (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Calibri"/>
              </a:rPr>
              <a:t>129F, 145M)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farmers on formulation of aggregation &amp; marketing pl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Over 350MT of soya was aggregated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he market prices are volatile……….fluctuating almost everyda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24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3568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Kabuli, Pelius (IITA)</cp:lastModifiedBy>
  <dcterms:modified xsi:type="dcterms:W3CDTF">2017-06-29T08:12:21Z</dcterms:modified>
  <cp:revision>163</cp:revision>
  <dc:subject/>
  <dc:title>Slide 1</dc:title>
</cp:coreProperties>
</file>